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F0F-3168-4D63-9BED-1FD65D3E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8F7-0426-469C-AA93-EC8D3BB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0E3-9993-41AE-AF5C-2645CFE2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CF7-33C8-45EE-81D2-1F8FE160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6DA-CE49-4478-95F6-12CE758B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A32-3E12-4110-9A3B-A615F39A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59A-2DF3-4615-9D67-3728C41A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D30-03DC-4293-8DC8-581484E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00D-71FA-4519-AE1D-6642EC42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949-AD9B-4182-BA38-49ED48E3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170-626A-462B-A799-1F8E4AEA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AA3-76A4-4DBD-B790-0C9F8858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4202-6DFE-4E69-ABDE-3478ADFC6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laina Dent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period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ulti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VOCABULARY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914400"/>
            <a:ext cx="88390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</a:t>
            </a:r>
            <a:endParaRPr b="1" i="1" lang="en-US" sz="18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0">
    <p:pull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path" presetID="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7 0 L 0.21 0.22241 L -0.04 0.22241 L 0 0 Z">
                                      <p:cBhvr>
                                        <p:cTn id="16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-Electronic mail which allows individuals with an account to send messages to another person with an E-mail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- internet relay chat was developed in 1988 by Jarkko Oikarinen and allows instant online communicating with someone else who is also online by typing messages back and f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S-Bulletin board service allows user to participate in a discussio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mb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- Hypertext transfer protocol is used for handling the transmission of pages between a web server and a web brow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P- File transfer protocol is used to rapidly transfer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NET-A program used on networks such as the internet to allow users to remotely log on to a server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OPHER-One of the first widespread internet browsing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TRANET-A network used by a single organization and only accessible by authoriz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IREWALL-A network security system that prevents unauthorized network 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EXTRANET-An extended intranet that provides various level of access to authorized members of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ONLINE PROFILING-A marketing technique that collects online data about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COOKIES- Small files that contain information about the web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333cc"/>
            </a:gs>
            <a:gs pos="100000">
              <a:srgbClr val="0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NET-A collection 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NDWIDTH- The amount of data and the speed at which the data can travel over the transmissio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ENT- A computer that accesse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50000">
              <a:srgbClr val="660066"/>
            </a:gs>
            <a:gs pos="100000">
              <a:srgbClr val="cc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L- 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- A widely used protocol for lans that uses a bus or star topology and connects the network devices  by twisted-pair wiring, coaxail cable, or fiber optic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IQUETTE-The etiiquette that should be followed when using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lus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OCOL-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OPOLOGY- The logical arrang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IRELESS NETWORKS- Atype of network that does not require the use of c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TERFACE CARD-A circuit board that goes into the base unit of a computer or other deviice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- Internet service provider is a company that offers access to the internet for a 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- A series of related web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6:15Z</dcterms:created>
  <dc:creator>765892</dc:creator>
  <dc:description/>
  <dc:language>en-US</dc:language>
  <cp:lastModifiedBy>765892</cp:lastModifiedBy>
  <dcterms:modified xsi:type="dcterms:W3CDTF">2009-04-16T15:47:49Z</dcterms:modified>
  <cp:revision>3</cp:revision>
  <dc:subject/>
  <dc:title>Elaina Dent 4th period Multimedia</dc:title>
</cp:coreProperties>
</file>